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28F7-C487-4ED8-9182-25B260641DF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451A-47B9-43D7-A1FA-D287EF4C896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A940-D796-4A05-B74E-315B047A63B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CF8B-A3A5-4FD8-9D7C-F1531498F9B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CC5A-30E0-4A76-A6E2-9F36110FE3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A7EE-A814-4866-9995-C039B3B26D1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8CB0-7301-4206-95DE-58051C2DC23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5373-1CFD-4E10-8E02-C939D0028CE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C448-F7E6-44B3-9C13-4120F4CDB88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9938-9590-4A4A-B3AF-B6779ECB111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BEEA-7D58-4C2C-9D51-E8C67778BA8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BA2A-E262-4973-8C1F-3966695518C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4981-F7A4-41CF-9287-9680C53DBDF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18C0-41E1-4145-8677-AE7CC30AB3D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E930-AF62-4ECA-90D5-C32CB3057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5979-36A9-4680-9166-ED1C25E4B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EA7E-E526-425A-B670-89030DEFF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6530-B481-49A8-B87C-1F05A0273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F30D-9060-419E-B302-364B24E13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9E7D-74AA-4F45-A2D3-467B4B0FD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2F25-F88E-44F5-87AC-A14B8D4C3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62D7-E587-4C81-8BC3-6D18FF2A9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0F17-2CDB-4B97-A769-1D78228FE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E4F0-461D-4393-83BC-38E309FB3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5F09-E304-4A37-AFC1-0B2EC48A3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80F5-2AA9-4896-9774-B1F7F1482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260F-0A5C-4623-9551-E29F9D463A2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05T01:20:08Z</dcterms:modified>
  <cp:revision>96</cp:revision>
  <dc:subject/>
  <dc:title>2006년도 식품의약품안전청 공개발표 선정평가    ℹ 사 업 명 :   ℹ 과 제 명 :   ℹ 연 구 비 :   ℹ 신청기관 :   ℹ 주관연구책임자 :</dc:title>
</cp:coreProperties>
</file>